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2DBB-CD5C-41A2-A483-C12F568B4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6D0F-BF6D-4034-8F14-15D53C59B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D707-0245-4EAF-A47E-CA6FF8216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C5FF-33A7-4547-AAF9-4E2CB1169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79EB8-29A6-49C1-A66E-741A8CAF8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99148-17F0-44AE-9128-A951A6BE5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E3FC3-6DEE-40A0-BEA3-2964A14CC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2F63C-829C-4EF8-8420-6E1746308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93C43-C975-429A-AFAA-67D60EB69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09252-7426-4F24-AD6D-49CCF2CE2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DAAF8-2251-4791-8A94-AF69ECEA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EE4D-64E8-4DCC-B28C-0E9C73A66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8CB3F-CB85-47D0-90EB-0B179130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7A273-782D-4573-9CEA-3D5D276E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3F92C-97CC-4DDC-BB58-A0BF53FEE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4A5AF-0D50-4507-8CB2-4A7DD451F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2F70D-4CB9-40CB-AA38-84B4259DD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FA8A-4825-40EC-B726-893A24163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B44C-555B-45EE-8885-58E779DDA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B2BA-C611-4DD3-90BE-242E60DBF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8BA1-7A97-4484-98C7-5AD88D8D4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2543-6697-4C8C-B292-C9E24F33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3A9B-910E-4DA6-9015-82148283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D4AF-8816-4B2E-9A8D-8967DABF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D250F-0FD0-42F1-82A2-B1DDBE98F50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69560" cy="68770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6320" y="3049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HK Projektprä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315200" y="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on Robin W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5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6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8EB54-9AAD-48FE-9875-32CC4505129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tp://symstore.longisland.com/symstore/productlibrary/wschematic/WiredSwitch.jpg" TargetMode="External"/><Relationship Id="rId2" Type="http://schemas.openxmlformats.org/officeDocument/2006/relationships/image" Target="../media/image2.jpeg"/><Relationship Id="rId3" Type="http://schemas.openxmlformats.org/officeDocument/2006/relationships/hyperlink" Target="ftp://symstore.longisland.com/symstore/productlibrary/wschematic/router.jpg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images.google.de/imgres?imgurl=www.tux.cl/historia/tux-larg.jpg&amp;imgrefurl=http://www.tux.cl/historia.php&amp;h=200&amp;w=168&amp;prev=/images%3Fq%3Dtux%26svnum%3D10%26hl%3Dde%26lr%3D%26ie%3DUTF-8" TargetMode="External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Wired Switch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24000" y="4397400"/>
            <a:ext cx="1047960" cy="104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1371600" y="133020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ealisierung eines Layer3-Fähigen Switches auf Linux Ba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Router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332000" y="3573360"/>
            <a:ext cx="1047600" cy="1047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39640" y="2709720"/>
            <a:ext cx="1036800" cy="107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1692360" y="2852640"/>
            <a:ext cx="30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Lin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411280" y="3713040"/>
            <a:ext cx="30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Layer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74920" y="4578480"/>
            <a:ext cx="30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wi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5211720" y="3149640"/>
            <a:ext cx="2600280" cy="1647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76320" y="100476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cherheitsmodi des Gerä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3520" y="167652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- Secure/Stealth Modu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85800" y="213372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Änderungen können nur direkt am Gerät vorgenommen wer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257508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s Gerät besitzt keine IP Adresse und ist nicht von lokalen Netzwerken aus angreifb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350532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Fernwartung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5800" y="396252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griff auf das Gateway nur über Weboberfläche mögli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85800" y="495288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griff erfolgt über Weboberfläche und SSH (SecureShel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44956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Administra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76320" y="100476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schlu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3520" y="167652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Layer 3 Switch wurde erfolgreich eingesetz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39640" y="2251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ine Diskettenversion ist zur Zeit in Entwickl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39640" y="282744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in Performanceverlust bei Betri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514440" y="4149720"/>
            <a:ext cx="8450280" cy="1297800"/>
            <a:chOff x="514440" y="4149720"/>
            <a:chExt cx="8450280" cy="1297800"/>
          </a:xfrm>
        </p:grpSpPr>
        <p:sp>
          <p:nvSpPr>
            <p:cNvPr id="273" name=""/>
            <p:cNvSpPr/>
            <p:nvPr/>
          </p:nvSpPr>
          <p:spPr>
            <a:xfrm>
              <a:off x="611280" y="4149720"/>
              <a:ext cx="8353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Danke für Ihre Aufmerksamkeit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14440" y="4987800"/>
              <a:ext cx="830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ine kurze Zusammenfassung erhalten sie als Hando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0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952880" y="457200"/>
            <a:ext cx="5715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inleitu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12952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undenprofil der SBE network solutions Gmb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00200" y="19051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90% aller Kunden bestehen aus Schulen 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0200" y="22860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ldungseinricht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00200" y="28195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SBE betreut deren Schul-, als au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28800" y="32004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waltungsnetzwer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00200" y="36576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Schul und Verwaltungsnetz sind getrennt 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828800" y="40384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sitzen jeweils eigene Internetzugä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5181480"/>
            <a:ext cx="1067040" cy="533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502920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sucht wird eine Lösung um beide Netzwerke gemeinsam ans Internet anzuschließ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61960" y="14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066680" y="1523880"/>
          <a:ext cx="6843960" cy="431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523880"/>
                    <a:ext cx="6843960" cy="431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4952880" y="533520"/>
            <a:ext cx="5715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st-Analy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258920" y="2565360"/>
            <a:ext cx="2448000" cy="719280"/>
            <a:chOff x="1258920" y="2565360"/>
            <a:chExt cx="2448000" cy="719280"/>
          </a:xfrm>
        </p:grpSpPr>
        <p:sp>
          <p:nvSpPr>
            <p:cNvPr id="117" name=""/>
            <p:cNvSpPr/>
            <p:nvPr/>
          </p:nvSpPr>
          <p:spPr>
            <a:xfrm>
              <a:off x="1258920" y="2565360"/>
              <a:ext cx="2448000" cy="719280"/>
            </a:xfrm>
            <a:prstGeom prst="rightArrowCallout">
              <a:avLst>
                <a:gd name="adj1" fmla="val 19224"/>
                <a:gd name="adj2" fmla="val 9611"/>
                <a:gd name="adj3" fmla="val 79239"/>
                <a:gd name="adj4" fmla="val 76718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295280" y="2681280"/>
              <a:ext cx="187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ISDN Zuga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716360" y="2637000"/>
            <a:ext cx="2448000" cy="576000"/>
            <a:chOff x="4716360" y="2637000"/>
            <a:chExt cx="2448000" cy="576000"/>
          </a:xfrm>
        </p:grpSpPr>
        <p:sp>
          <p:nvSpPr>
            <p:cNvPr id="120" name=""/>
            <p:cNvSpPr/>
            <p:nvPr/>
          </p:nvSpPr>
          <p:spPr>
            <a:xfrm>
              <a:off x="4716360" y="2637000"/>
              <a:ext cx="2448000" cy="576000"/>
            </a:xfrm>
            <a:prstGeom prst="rightArrowCallout">
              <a:avLst>
                <a:gd name="adj1" fmla="val 19224"/>
                <a:gd name="adj2" fmla="val 9611"/>
                <a:gd name="adj3" fmla="val 98950"/>
                <a:gd name="adj4" fmla="val 76718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752720" y="2728800"/>
              <a:ext cx="187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DSL Zuga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876920" y="609480"/>
            <a:ext cx="5715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ll-Konzep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619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619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065240" y="1521000"/>
          <a:ext cx="6845400" cy="44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5240" y="1521000"/>
                    <a:ext cx="6845400" cy="44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7" name=""/>
          <p:cNvGrpSpPr/>
          <p:nvPr/>
        </p:nvGrpSpPr>
        <p:grpSpPr>
          <a:xfrm>
            <a:off x="0" y="1989000"/>
            <a:ext cx="2448000" cy="1800360"/>
            <a:chOff x="0" y="1989000"/>
            <a:chExt cx="2448000" cy="1800360"/>
          </a:xfrm>
        </p:grpSpPr>
        <p:sp>
          <p:nvSpPr>
            <p:cNvPr id="128" name=""/>
            <p:cNvSpPr/>
            <p:nvPr/>
          </p:nvSpPr>
          <p:spPr>
            <a:xfrm>
              <a:off x="0" y="1989000"/>
              <a:ext cx="2448000" cy="1800360"/>
            </a:xfrm>
            <a:prstGeom prst="rightArrowCallout">
              <a:avLst>
                <a:gd name="adj1" fmla="val 19224"/>
                <a:gd name="adj2" fmla="val 9611"/>
                <a:gd name="adj3" fmla="val 31658"/>
                <a:gd name="adj4" fmla="val 76718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6360" y="2276640"/>
              <a:ext cx="1871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Tahoma"/>
                </a:rPr>
                <a:t>Verbindung von Teilnetz und Layer 3 Swit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2627280" y="1486080"/>
            <a:ext cx="3025440" cy="1006200"/>
            <a:chOff x="2627280" y="1486080"/>
            <a:chExt cx="3025440" cy="1006200"/>
          </a:xfrm>
        </p:grpSpPr>
        <p:sp>
          <p:nvSpPr>
            <p:cNvPr id="131" name=""/>
            <p:cNvSpPr/>
            <p:nvPr/>
          </p:nvSpPr>
          <p:spPr>
            <a:xfrm>
              <a:off x="2627280" y="1486080"/>
              <a:ext cx="3025440" cy="1006200"/>
            </a:xfrm>
            <a:prstGeom prst="rightArrowCallout">
              <a:avLst>
                <a:gd name="adj1" fmla="val 33188"/>
                <a:gd name="adj2" fmla="val 16593"/>
                <a:gd name="adj3" fmla="val 100226"/>
                <a:gd name="adj4" fmla="val 66667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28720" y="1635480"/>
              <a:ext cx="212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Tahoma"/>
                </a:rPr>
                <a:t>Internetzugang über Rou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643280" y="2565360"/>
            <a:ext cx="3981600" cy="1008000"/>
            <a:chOff x="4643280" y="2565360"/>
            <a:chExt cx="3981600" cy="1008000"/>
          </a:xfrm>
        </p:grpSpPr>
        <p:sp>
          <p:nvSpPr>
            <p:cNvPr id="134" name=""/>
            <p:cNvSpPr/>
            <p:nvPr/>
          </p:nvSpPr>
          <p:spPr>
            <a:xfrm>
              <a:off x="4643280" y="2565360"/>
              <a:ext cx="3924360" cy="1008000"/>
            </a:xfrm>
            <a:prstGeom prst="leftArrowCallout">
              <a:avLst>
                <a:gd name="adj1" fmla="val 23493"/>
                <a:gd name="adj2" fmla="val 11745"/>
                <a:gd name="adj3" fmla="val 129774"/>
                <a:gd name="adj4" fmla="val 66673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997600" y="2643120"/>
              <a:ext cx="262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Tahoma"/>
                </a:rPr>
                <a:t>Sichere Trennung durch Layer 3 Swit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876920" y="609480"/>
            <a:ext cx="5715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jektzie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619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619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1280" y="12952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ministrationsaufwand verring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311616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ugangskosten sen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611280" y="3692520"/>
            <a:ext cx="8526240" cy="818640"/>
            <a:chOff x="611280" y="3692520"/>
            <a:chExt cx="8526240" cy="818640"/>
          </a:xfrm>
        </p:grpSpPr>
        <p:sp>
          <p:nvSpPr>
            <p:cNvPr id="142" name=""/>
            <p:cNvSpPr/>
            <p:nvPr/>
          </p:nvSpPr>
          <p:spPr>
            <a:xfrm>
              <a:off x="1287360" y="3692520"/>
              <a:ext cx="784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s fallen nur noch Kosten für einen Zugang an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89160" y="4051440"/>
              <a:ext cx="784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ie Trennung der Netze bleibt jedoch erhalt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11280" y="3789360"/>
              <a:ext cx="574560" cy="503280"/>
            </a:xfrm>
            <a:prstGeom prst="rightArrow">
              <a:avLst>
                <a:gd name="adj1" fmla="val 50000"/>
                <a:gd name="adj2" fmla="val 2854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684360" y="47005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cherheit erhö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617400" y="5373720"/>
            <a:ext cx="8562960" cy="505800"/>
            <a:chOff x="617400" y="5373720"/>
            <a:chExt cx="8562960" cy="505800"/>
          </a:xfrm>
        </p:grpSpPr>
        <p:sp>
          <p:nvSpPr>
            <p:cNvPr id="147" name=""/>
            <p:cNvSpPr/>
            <p:nvPr/>
          </p:nvSpPr>
          <p:spPr>
            <a:xfrm>
              <a:off x="617400" y="5373720"/>
              <a:ext cx="574920" cy="503280"/>
            </a:xfrm>
            <a:prstGeom prst="rightArrow">
              <a:avLst>
                <a:gd name="adj1" fmla="val 50000"/>
                <a:gd name="adj2" fmla="val 285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32000" y="5419800"/>
              <a:ext cx="784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doppelte Absicherung durch Router und Switch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11280" y="1773360"/>
            <a:ext cx="8539200" cy="1153440"/>
            <a:chOff x="611280" y="1773360"/>
            <a:chExt cx="8539200" cy="1153440"/>
          </a:xfrm>
        </p:grpSpPr>
        <p:sp>
          <p:nvSpPr>
            <p:cNvPr id="150" name=""/>
            <p:cNvSpPr/>
            <p:nvPr/>
          </p:nvSpPr>
          <p:spPr>
            <a:xfrm>
              <a:off x="1295280" y="1773360"/>
              <a:ext cx="784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ur noch ein Internetzugang muss verwalt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11280" y="1917720"/>
              <a:ext cx="574560" cy="503280"/>
            </a:xfrm>
            <a:prstGeom prst="rightArrow">
              <a:avLst>
                <a:gd name="adj1" fmla="val 50000"/>
                <a:gd name="adj2" fmla="val 2854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301760" y="2108160"/>
              <a:ext cx="784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und überwacht werd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260360" y="2467080"/>
              <a:ext cx="784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kein Subnetting benötig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76320" y="100476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lterverfah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371600" y="4724280"/>
            <a:ext cx="2514600" cy="1143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564000" y="2133720"/>
            <a:ext cx="2209680" cy="289548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86200" y="4724280"/>
            <a:ext cx="4038480" cy="1143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310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857840" y="5238720"/>
          <a:ext cx="628560" cy="62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7840" y="5238720"/>
                    <a:ext cx="62856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3962520" y="5238720"/>
          <a:ext cx="628560" cy="62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2520" y="5238720"/>
                    <a:ext cx="62856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4114800" y="2286000"/>
            <a:ext cx="0" cy="2743200"/>
          </a:xfrm>
          <a:prstGeom prst="line">
            <a:avLst/>
          </a:prstGeom>
          <a:ln w="381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2286000"/>
            <a:ext cx="0" cy="2743200"/>
          </a:xfrm>
          <a:prstGeom prst="line">
            <a:avLst/>
          </a:prstGeom>
          <a:ln w="381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724280" y="2133720"/>
            <a:ext cx="0" cy="3733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3352680" y="5334120"/>
            <a:ext cx="2667240" cy="380880"/>
            <a:chOff x="3352680" y="5334120"/>
            <a:chExt cx="2667240" cy="380880"/>
          </a:xfrm>
        </p:grpSpPr>
        <p:sp>
          <p:nvSpPr>
            <p:cNvPr id="167" name=""/>
            <p:cNvSpPr/>
            <p:nvPr/>
          </p:nvSpPr>
          <p:spPr>
            <a:xfrm>
              <a:off x="3352680" y="5410080"/>
              <a:ext cx="457200" cy="30492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5562720" y="5334120"/>
              <a:ext cx="457200" cy="304560"/>
            </a:xfrm>
            <a:prstGeom prst="rightArrow">
              <a:avLst>
                <a:gd name="adj1" fmla="val 50000"/>
                <a:gd name="adj2" fmla="val 3753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2743200" y="5334120"/>
            <a:ext cx="3886200" cy="380880"/>
            <a:chOff x="2743200" y="5334120"/>
            <a:chExt cx="3886200" cy="380880"/>
          </a:xfrm>
        </p:grpSpPr>
        <p:sp>
          <p:nvSpPr>
            <p:cNvPr id="170" name=""/>
            <p:cNvSpPr/>
            <p:nvPr/>
          </p:nvSpPr>
          <p:spPr>
            <a:xfrm>
              <a:off x="2743200" y="5410080"/>
              <a:ext cx="457200" cy="30492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6172200" y="5334120"/>
              <a:ext cx="457200" cy="304560"/>
            </a:xfrm>
            <a:prstGeom prst="rightArrow">
              <a:avLst>
                <a:gd name="adj1" fmla="val 50000"/>
                <a:gd name="adj2" fmla="val 3753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2133720" y="5334120"/>
            <a:ext cx="5105160" cy="380880"/>
            <a:chOff x="2133720" y="5334120"/>
            <a:chExt cx="5105160" cy="380880"/>
          </a:xfrm>
        </p:grpSpPr>
        <p:sp>
          <p:nvSpPr>
            <p:cNvPr id="173" name=""/>
            <p:cNvSpPr/>
            <p:nvPr/>
          </p:nvSpPr>
          <p:spPr>
            <a:xfrm>
              <a:off x="2133720" y="5410080"/>
              <a:ext cx="457200" cy="30492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6781680" y="5334120"/>
              <a:ext cx="457200" cy="304560"/>
            </a:xfrm>
            <a:prstGeom prst="rightArrow">
              <a:avLst>
                <a:gd name="adj1" fmla="val 50000"/>
                <a:gd name="adj2" fmla="val 3753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883680" y="4950360"/>
            <a:ext cx="1579320" cy="728280"/>
            <a:chOff x="3883680" y="4950360"/>
            <a:chExt cx="1579320" cy="728280"/>
          </a:xfrm>
        </p:grpSpPr>
        <p:sp>
          <p:nvSpPr>
            <p:cNvPr id="176" name=""/>
            <p:cNvSpPr/>
            <p:nvPr/>
          </p:nvSpPr>
          <p:spPr>
            <a:xfrm flipH="1" rot="5379000">
              <a:off x="3885120" y="4990680"/>
              <a:ext cx="685800" cy="685800"/>
            </a:xfrm>
            <a:custGeom>
              <a:avLst/>
              <a:gdLst>
                <a:gd name="textAreaLeft" fmla="*/ -360 w 685800"/>
                <a:gd name="textAreaRight" fmla="*/ 685800 w 68580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6221000">
              <a:off x="4773240" y="4950720"/>
              <a:ext cx="685800" cy="68868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688680"/>
                <a:gd name="textAreaBottom" fmla="*/ 689040 h 68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 flipV="1">
            <a:off x="4724280" y="13712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990720" y="51811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8153280" y="48765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5"/>
          <a:stretch/>
        </p:blipFill>
        <p:spPr>
          <a:xfrm>
            <a:off x="4038480" y="760320"/>
            <a:ext cx="1371600" cy="9162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562720" y="5257800"/>
            <a:ext cx="213336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00200" y="5257800"/>
            <a:ext cx="213372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6"/>
          <a:stretch/>
        </p:blipFill>
        <p:spPr>
          <a:xfrm>
            <a:off x="304920" y="4267080"/>
            <a:ext cx="1371600" cy="916200"/>
          </a:xfrm>
          <a:prstGeom prst="rect">
            <a:avLst/>
          </a:prstGeom>
          <a:ln w="0">
            <a:noFill/>
          </a:ln>
        </p:spPr>
      </p:pic>
      <p:grpSp>
        <p:nvGrpSpPr>
          <p:cNvPr id="185" name=""/>
          <p:cNvGrpSpPr/>
          <p:nvPr/>
        </p:nvGrpSpPr>
        <p:grpSpPr>
          <a:xfrm>
            <a:off x="3274200" y="4455360"/>
            <a:ext cx="2823120" cy="690120"/>
            <a:chOff x="3274200" y="4455360"/>
            <a:chExt cx="2823120" cy="690120"/>
          </a:xfrm>
        </p:grpSpPr>
        <p:sp>
          <p:nvSpPr>
            <p:cNvPr id="186" name=""/>
            <p:cNvSpPr/>
            <p:nvPr/>
          </p:nvSpPr>
          <p:spPr>
            <a:xfrm flipH="1" rot="10779000">
              <a:off x="5409000" y="4457520"/>
              <a:ext cx="685800" cy="685800"/>
            </a:xfrm>
            <a:custGeom>
              <a:avLst/>
              <a:gdLst>
                <a:gd name="textAreaLeft" fmla="*/ -360 w 685800"/>
                <a:gd name="textAreaRight" fmla="*/ 685800 w 68580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10821000">
              <a:off x="3276000" y="4457520"/>
              <a:ext cx="685800" cy="68580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2743200" y="4800600"/>
            <a:ext cx="3886200" cy="304920"/>
            <a:chOff x="2743200" y="4800600"/>
            <a:chExt cx="3886200" cy="304920"/>
          </a:xfrm>
        </p:grpSpPr>
        <p:sp>
          <p:nvSpPr>
            <p:cNvPr id="189" name=""/>
            <p:cNvSpPr/>
            <p:nvPr/>
          </p:nvSpPr>
          <p:spPr>
            <a:xfrm flipH="1">
              <a:off x="2743200" y="4800600"/>
              <a:ext cx="457200" cy="30492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172200" y="4800600"/>
              <a:ext cx="457200" cy="30492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2209680" y="4800600"/>
            <a:ext cx="5029200" cy="304920"/>
            <a:chOff x="2209680" y="4800600"/>
            <a:chExt cx="5029200" cy="304920"/>
          </a:xfrm>
        </p:grpSpPr>
        <p:sp>
          <p:nvSpPr>
            <p:cNvPr id="192" name=""/>
            <p:cNvSpPr/>
            <p:nvPr/>
          </p:nvSpPr>
          <p:spPr>
            <a:xfrm flipH="1">
              <a:off x="2209680" y="4800600"/>
              <a:ext cx="457200" cy="30492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781680" y="4800600"/>
              <a:ext cx="457200" cy="30492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1600200" y="4800600"/>
            <a:ext cx="6172200" cy="304920"/>
            <a:chOff x="1600200" y="4800600"/>
            <a:chExt cx="6172200" cy="304920"/>
          </a:xfrm>
        </p:grpSpPr>
        <p:sp>
          <p:nvSpPr>
            <p:cNvPr id="195" name=""/>
            <p:cNvSpPr/>
            <p:nvPr/>
          </p:nvSpPr>
          <p:spPr>
            <a:xfrm flipH="1">
              <a:off x="1600200" y="4800600"/>
              <a:ext cx="457200" cy="30492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315200" y="4800600"/>
              <a:ext cx="457200" cy="30492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7" name="" descr=""/>
          <p:cNvPicPr/>
          <p:nvPr/>
        </p:nvPicPr>
        <p:blipFill>
          <a:blip r:embed="rId7"/>
          <a:stretch/>
        </p:blipFill>
        <p:spPr>
          <a:xfrm>
            <a:off x="7467480" y="3962520"/>
            <a:ext cx="1371600" cy="915840"/>
          </a:xfrm>
          <a:prstGeom prst="rect">
            <a:avLst/>
          </a:prstGeom>
          <a:ln w="0">
            <a:noFill/>
          </a:ln>
        </p:spPr>
      </p:pic>
      <p:grpSp>
        <p:nvGrpSpPr>
          <p:cNvPr id="198" name=""/>
          <p:cNvGrpSpPr/>
          <p:nvPr/>
        </p:nvGrpSpPr>
        <p:grpSpPr>
          <a:xfrm>
            <a:off x="4229280" y="4267080"/>
            <a:ext cx="888840" cy="457200"/>
            <a:chOff x="4229280" y="4267080"/>
            <a:chExt cx="888840" cy="457200"/>
          </a:xfrm>
        </p:grpSpPr>
        <p:sp>
          <p:nvSpPr>
            <p:cNvPr id="199" name=""/>
            <p:cNvSpPr/>
            <p:nvPr/>
          </p:nvSpPr>
          <p:spPr>
            <a:xfrm rot="16200000">
              <a:off x="4152960" y="4343400"/>
              <a:ext cx="457200" cy="304560"/>
            </a:xfrm>
            <a:prstGeom prst="rightArrow">
              <a:avLst>
                <a:gd name="adj1" fmla="val 50000"/>
                <a:gd name="adj2" fmla="val 3753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6200000">
              <a:off x="4736880" y="4343040"/>
              <a:ext cx="457200" cy="30492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216320" y="3657600"/>
            <a:ext cx="889200" cy="457200"/>
            <a:chOff x="4216320" y="3657600"/>
            <a:chExt cx="889200" cy="457200"/>
          </a:xfrm>
        </p:grpSpPr>
        <p:sp>
          <p:nvSpPr>
            <p:cNvPr id="202" name=""/>
            <p:cNvSpPr/>
            <p:nvPr/>
          </p:nvSpPr>
          <p:spPr>
            <a:xfrm rot="16200000">
              <a:off x="4140000" y="3733560"/>
              <a:ext cx="457200" cy="30492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16200000">
              <a:off x="4724280" y="3733560"/>
              <a:ext cx="457200" cy="30492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229280" y="3048120"/>
            <a:ext cx="888840" cy="457200"/>
            <a:chOff x="4229280" y="3048120"/>
            <a:chExt cx="888840" cy="457200"/>
          </a:xfrm>
        </p:grpSpPr>
        <p:sp>
          <p:nvSpPr>
            <p:cNvPr id="205" name=""/>
            <p:cNvSpPr/>
            <p:nvPr/>
          </p:nvSpPr>
          <p:spPr>
            <a:xfrm rot="16200000">
              <a:off x="4152960" y="3124440"/>
              <a:ext cx="457200" cy="304560"/>
            </a:xfrm>
            <a:prstGeom prst="rightArrow">
              <a:avLst>
                <a:gd name="adj1" fmla="val 50000"/>
                <a:gd name="adj2" fmla="val 3753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6200000">
              <a:off x="4736880" y="3124080"/>
              <a:ext cx="457200" cy="30492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4241880" y="2362320"/>
            <a:ext cx="888840" cy="457200"/>
            <a:chOff x="4241880" y="2362320"/>
            <a:chExt cx="888840" cy="457200"/>
          </a:xfrm>
        </p:grpSpPr>
        <p:sp>
          <p:nvSpPr>
            <p:cNvPr id="208" name=""/>
            <p:cNvSpPr/>
            <p:nvPr/>
          </p:nvSpPr>
          <p:spPr>
            <a:xfrm rot="16200000">
              <a:off x="4165560" y="2438640"/>
              <a:ext cx="457200" cy="304560"/>
            </a:xfrm>
            <a:prstGeom prst="rightArrow">
              <a:avLst>
                <a:gd name="adj1" fmla="val 50000"/>
                <a:gd name="adj2" fmla="val 3753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16200000">
              <a:off x="4749840" y="2438640"/>
              <a:ext cx="457200" cy="304560"/>
            </a:xfrm>
            <a:prstGeom prst="rightArrow">
              <a:avLst>
                <a:gd name="adj1" fmla="val 50000"/>
                <a:gd name="adj2" fmla="val 3753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695040" y="3822840"/>
            <a:ext cx="2019240" cy="469800"/>
            <a:chOff x="3695040" y="3822840"/>
            <a:chExt cx="2019240" cy="469800"/>
          </a:xfrm>
        </p:grpSpPr>
        <p:sp>
          <p:nvSpPr>
            <p:cNvPr id="211" name=""/>
            <p:cNvSpPr/>
            <p:nvPr/>
          </p:nvSpPr>
          <p:spPr>
            <a:xfrm flipH="1" rot="16200000">
              <a:off x="3618360" y="3898800"/>
              <a:ext cx="457200" cy="30492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 rot="16200000">
              <a:off x="5332680" y="3911400"/>
              <a:ext cx="457200" cy="30492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3683160" y="3200400"/>
            <a:ext cx="2018520" cy="469800"/>
            <a:chOff x="3683160" y="3200400"/>
            <a:chExt cx="2018520" cy="469800"/>
          </a:xfrm>
        </p:grpSpPr>
        <p:sp>
          <p:nvSpPr>
            <p:cNvPr id="214" name=""/>
            <p:cNvSpPr/>
            <p:nvPr/>
          </p:nvSpPr>
          <p:spPr>
            <a:xfrm flipH="1" rot="16200000">
              <a:off x="3606840" y="3276720"/>
              <a:ext cx="457200" cy="304560"/>
            </a:xfrm>
            <a:prstGeom prst="rightArrow">
              <a:avLst>
                <a:gd name="adj1" fmla="val 50000"/>
                <a:gd name="adj2" fmla="val 3753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 rot="16200000">
              <a:off x="5320080" y="3288960"/>
              <a:ext cx="457200" cy="30492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683160" y="2577960"/>
            <a:ext cx="2018520" cy="470160"/>
            <a:chOff x="3683160" y="2577960"/>
            <a:chExt cx="2018520" cy="470160"/>
          </a:xfrm>
        </p:grpSpPr>
        <p:sp>
          <p:nvSpPr>
            <p:cNvPr id="217" name=""/>
            <p:cNvSpPr/>
            <p:nvPr/>
          </p:nvSpPr>
          <p:spPr>
            <a:xfrm flipH="1" rot="16200000">
              <a:off x="3606840" y="2654280"/>
              <a:ext cx="457200" cy="304560"/>
            </a:xfrm>
            <a:prstGeom prst="rightArrow">
              <a:avLst>
                <a:gd name="adj1" fmla="val 50000"/>
                <a:gd name="adj2" fmla="val 3753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 rot="16200000">
              <a:off x="5320080" y="2666880"/>
              <a:ext cx="457200" cy="30492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523880" y="5329080"/>
            <a:ext cx="6324840" cy="380880"/>
            <a:chOff x="1523880" y="5329080"/>
            <a:chExt cx="6324840" cy="380880"/>
          </a:xfrm>
        </p:grpSpPr>
        <p:sp>
          <p:nvSpPr>
            <p:cNvPr id="220" name=""/>
            <p:cNvSpPr/>
            <p:nvPr/>
          </p:nvSpPr>
          <p:spPr>
            <a:xfrm flipH="1">
              <a:off x="7391520" y="5329080"/>
              <a:ext cx="457200" cy="304560"/>
            </a:xfrm>
            <a:prstGeom prst="rightArrow">
              <a:avLst>
                <a:gd name="adj1" fmla="val 50000"/>
                <a:gd name="adj2" fmla="val 3753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523880" y="5405040"/>
              <a:ext cx="457200" cy="304920"/>
            </a:xfrm>
            <a:prstGeom prst="rightArrow">
              <a:avLst>
                <a:gd name="adj1" fmla="val 50000"/>
                <a:gd name="adj2" fmla="val 37485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5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5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5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600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65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70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611280" y="2492280"/>
            <a:ext cx="1931760" cy="19321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250920" y="4005360"/>
            <a:ext cx="1676160" cy="10047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76320" y="100476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ische Realisier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5219640" y="0"/>
            <a:ext cx="2842920" cy="2649240"/>
            <a:chOff x="5219640" y="0"/>
            <a:chExt cx="2842920" cy="2649240"/>
          </a:xfrm>
        </p:grpSpPr>
        <p:sp>
          <p:nvSpPr>
            <p:cNvPr id="226" name="Gear"/>
            <p:cNvSpPr/>
            <p:nvPr/>
          </p:nvSpPr>
          <p:spPr>
            <a:xfrm>
              <a:off x="6795720" y="0"/>
              <a:ext cx="1266840" cy="12146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219640" y="500400"/>
              <a:ext cx="1514520" cy="14522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202080" y="1036080"/>
              <a:ext cx="1683360" cy="16131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755640" y="4005360"/>
            <a:ext cx="1676520" cy="10047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1258920" y="4008600"/>
            <a:ext cx="1676520" cy="100476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2268360" y="2060640"/>
            <a:ext cx="32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 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263700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Netzwerkkar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059280" y="314172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inux Instllation (Debi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780000" y="371628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dge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0" y="4292640"/>
            <a:ext cx="32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inux Layer 3 Switch Scrip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80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600"/>
                            </p:stCondLst>
                            <p:childTnLst>
                              <p:par>
                                <p:cTn id="193" nodeType="after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762120" y="12952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en der verschiedenen Netzwerkkar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1139760" y="1828800"/>
            <a:ext cx="7319880" cy="3474360"/>
            <a:chOff x="1139760" y="1828800"/>
            <a:chExt cx="7319880" cy="3474360"/>
          </a:xfrm>
        </p:grpSpPr>
        <p:sp>
          <p:nvSpPr>
            <p:cNvPr id="238" name=""/>
            <p:cNvSpPr/>
            <p:nvPr/>
          </p:nvSpPr>
          <p:spPr>
            <a:xfrm>
              <a:off x="1143000" y="1828800"/>
              <a:ext cx="662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- Karte 1 : Gateway, Verbindung zum Rou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139760" y="3332160"/>
              <a:ext cx="662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 Karte 2 : Verbindung zum Schulnetzwe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144440" y="4843440"/>
              <a:ext cx="731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 Karte 3 : Verbindung zum Verwaltungsnetzwe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1023840" y="2208240"/>
            <a:ext cx="1695600" cy="4097160"/>
            <a:chOff x="1023840" y="2208240"/>
            <a:chExt cx="1695600" cy="4097160"/>
          </a:xfrm>
        </p:grpSpPr>
        <p:pic>
          <p:nvPicPr>
            <p:cNvPr id="242" name="" descr=""/>
            <p:cNvPicPr/>
            <p:nvPr/>
          </p:nvPicPr>
          <p:blipFill>
            <a:blip r:embed="rId1"/>
            <a:stretch/>
          </p:blipFill>
          <p:spPr>
            <a:xfrm>
              <a:off x="1042920" y="3716280"/>
              <a:ext cx="1676520" cy="100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/>
            <p:cNvPicPr/>
            <p:nvPr/>
          </p:nvPicPr>
          <p:blipFill>
            <a:blip r:embed="rId2"/>
            <a:stretch/>
          </p:blipFill>
          <p:spPr>
            <a:xfrm>
              <a:off x="1023840" y="5300640"/>
              <a:ext cx="1676520" cy="100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3"/>
            <a:stretch/>
          </p:blipFill>
          <p:spPr>
            <a:xfrm>
              <a:off x="1023840" y="2208240"/>
              <a:ext cx="1676520" cy="1004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5" name=""/>
          <p:cNvGrpSpPr/>
          <p:nvPr/>
        </p:nvGrpSpPr>
        <p:grpSpPr>
          <a:xfrm>
            <a:off x="468360" y="2492280"/>
            <a:ext cx="4248000" cy="3384720"/>
            <a:chOff x="468360" y="2492280"/>
            <a:chExt cx="4248000" cy="3384720"/>
          </a:xfrm>
        </p:grpSpPr>
        <p:sp>
          <p:nvSpPr>
            <p:cNvPr id="246" name=""/>
            <p:cNvSpPr/>
            <p:nvPr/>
          </p:nvSpPr>
          <p:spPr>
            <a:xfrm>
              <a:off x="468360" y="5877000"/>
              <a:ext cx="93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68360" y="2708280"/>
              <a:ext cx="93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28720" y="4292640"/>
              <a:ext cx="6476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28720" y="2781360"/>
              <a:ext cx="6476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042920" y="2852640"/>
              <a:ext cx="433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042920" y="2852640"/>
              <a:ext cx="0" cy="28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68360" y="2708280"/>
              <a:ext cx="0" cy="3168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26920" y="2781360"/>
              <a:ext cx="0" cy="15127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042920" y="3141720"/>
              <a:ext cx="2376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Cloud"/>
            <p:cNvSpPr/>
            <p:nvPr/>
          </p:nvSpPr>
          <p:spPr>
            <a:xfrm>
              <a:off x="3348000" y="2492280"/>
              <a:ext cx="1368360" cy="91764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76320" y="100476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boberflä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33520" y="190512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- ermöglicht eine einfache steuerung des Gerä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33520" y="236232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ermöglicht die Fernwartung von jedem Browser 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33520" y="281952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wird durch Passwortabfrage geschütz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4T12:56:36Z</dcterms:created>
  <dc:creator>SBE network solutions GmbH</dc:creator>
  <dc:description/>
  <dc:language>en-US</dc:language>
  <cp:lastModifiedBy>Ernst</cp:lastModifiedBy>
  <dcterms:modified xsi:type="dcterms:W3CDTF">2003-07-13T21:01:56Z</dcterms:modified>
  <cp:revision>61</cp:revision>
  <dc:subject/>
  <dc:title>PowerPoint-Präsentation</dc:title>
</cp:coreProperties>
</file>